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AB87-8A1A-44BD-9AAF-6E2654E3C2A1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6EEF-26DB-4340-9FE5-F4520838C888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3D60-7159-449B-8F20-3BF19FB295C3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F07B-F062-4FB2-9401-E5A413F8E4AE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7A3E-804F-46B1-8206-8A0166715104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3210-14C6-408E-8073-618E89ED2CFC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9F35-3FE0-42BF-93F4-9AF832071F82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Zástupný symbol čísla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00C9-1328-4F64-8AC3-4D2FB300849D}" type="slidenum">
              <a:rPr b="0" lang="sk-SK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29DA-630C-44AC-AB53-6E065E5D3B1D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B161-2AED-42BC-B365-112D59C9DDC9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1EF4-6B2D-4BDD-B648-664E58DABCC7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7B08-785B-4B25-8147-8926D0F2C15B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1293-832A-4191-B8C4-0D14BB44A3AF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F63D-7434-472D-A557-4A98C069F2F0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EE10-2800-4AD9-8B44-DF72FBA4BB4E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1280-90EF-4F9C-B3FD-AA7B4364E502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63CB-C6C8-4D0C-B30D-C5FDEB300F30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Zástupný objekt pre číslo snímky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0172-5AD2-4871-B2BF-8297DE18B34F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AF3B-D331-413F-A214-8D0EF471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7CB-9FF0-4837-AB5F-E3F66749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99BD-08DE-4601-A7EC-A9B79AE3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C8BA-374E-4D46-80AD-0D05673D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7A8C-FAC6-4F32-8D82-E569A34F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F53C-2048-463D-B2A8-1AA8E91C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53CA-CB3F-4938-B2A3-2AF89108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304F-9BC1-4B32-A45A-B46791FD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9504-B46C-4197-BB1B-4BE6AE65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B063-B1CB-4295-9AD5-B34DAFFF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0FBA-E206-41F1-8092-6DF9C0A1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FB1F-3BE2-48C7-A6C6-5682EF95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B859-9280-44EC-9EE7-A17610506ABF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720" y="4071960"/>
            <a:ext cx="427212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Finančná časť - implementá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28720" y="5516640"/>
            <a:ext cx="42577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oprávnené a neoprávnené výdavk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financovanie projektu/projektov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BlokTextu 5"/>
          <p:cNvSpPr/>
          <p:nvPr/>
        </p:nvSpPr>
        <p:spPr>
          <a:xfrm>
            <a:off x="539640" y="5805360"/>
            <a:ext cx="324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f7f7f"/>
                </a:solidFill>
                <a:latin typeface="Calibri"/>
              </a:rPr>
              <a:t>               </a:t>
            </a: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nformačné seminá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výzva </a:t>
            </a:r>
            <a:r>
              <a:rPr b="0" lang="sk-SK" sz="1400" spc="-1" strike="noStrike">
                <a:solidFill>
                  <a:srgbClr val="7f7f7f"/>
                </a:solidFill>
                <a:latin typeface="Calibri"/>
              </a:rPr>
              <a:t>č.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400" spc="-1" strike="noStrike">
                <a:solidFill>
                  <a:srgbClr val="7f7f7f"/>
                </a:solidFill>
                <a:latin typeface="Calibri"/>
              </a:rPr>
              <a:t>OPLZ-PO1/2016/DOP/1.1.1-0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„</a:t>
            </a: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V základnej škole úspešnejší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3 – riadok 0131 pod písmenom A je súčtový a uvádza kumulatívne všetkých pedagogických asistentov (B1) a členov inkluzívneho tímu (B2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právne vyplnené uvedené údaje sú nevyhnutné pre potreby dokladovania oprávnenosti výdavkov v rámci projektu. Zvyšné údaje v Štvrťročnom výkaze o práci v školstve (Škol MŠVVaŠ SR 1-04) je povinný subjekt vyplniť v zmysle pokynov Ministerstva školstva, vedy, výskumu a športu SR platné pre dané vykazovani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á správa o čin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Usmernenie pre prijímateľov k predkladaniu Štvrťročnej správy o činnosti v rámci štandardnej stupnice jednotkových nákladov pre pracovné pozície - pedagogický asistent, inkluzívny tím a asistent učiteľa pre žiakov so zdravotným znevýhodnením  (</a:t>
            </a:r>
            <a:r>
              <a:rPr b="1" lang="sk-SK" sz="1800" spc="-1" strike="noStrike">
                <a:solidFill>
                  <a:srgbClr val="0070c0"/>
                </a:solidFill>
                <a:latin typeface="Calibri"/>
              </a:rPr>
              <a:t>http://www.minedu.sk/usmernenie-pre-prijimatelov-k-predkladaniu-stvrtrocnej-spravy-o-cinnosti/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rijímateľ je povinný zasielať na Sprostredkovateľský orgán Ministerstvo školstva, vedy, výskumu a športu Slovenskej republiky raz za štvrťrok Štvrťročnú správu o činnosti. Štvrťročnú správu o činnosti predkladá prijímateľ v tlačenej forme ku každej žiadosti o platbu, v ktorej sú nárokované výdavky formou štandardnej stupnice jednotkových nákladov pedagogického asistenta, asistenta učiteľa a členov inkluzívneho tímu, ktorá je predložená na SO na zúčtovanie po uplynutí štvrťročného obdobia. V žiadostiach o platbu, ktoré sú predložené na SO mimo uvedeného obdobia Štvrťročnú správu o činnosti prijímateľ nepredkladá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á správa o čin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Štvrťročnej správe o činnosti sú uvedené všetky činnosti, ktoré zamestnanec vykonával v danom štvrťroku za každý príslušný mesiac samostatne, popíše sa najmä práca s cieľovou skupinou. Ak relevantné ku každej činnosti sa priradí výstup formou samostatnej prílohy. Opis činnosti musí byť v súlade s činnosťami oprávnenými pre financovanie uvedenými v štandardnej stupnici jednotkových nákladov a s opisom pracovnej činnosti zamestnanc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Na základe predložených Štvrťročných správ o činnosti vykoná SO kontrolu oprávnenosti výdavkov, v prípade zistenia nezrovnalostí aj spätne za celé vykazované štvrťročné obdobi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á správa o čin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528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Objekt 24"/>
          <p:cNvGraphicFramePr/>
          <p:nvPr/>
        </p:nvGraphicFramePr>
        <p:xfrm>
          <a:off x="2987640" y="1052640"/>
          <a:ext cx="3255840" cy="489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k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052640"/>
                    <a:ext cx="3255840" cy="4898880"/>
                  </a:xfrm>
                  <a:prstGeom prst="rect">
                    <a:avLst/>
                  </a:prstGeom>
                  <a:ln w="9360">
                    <a:solidFill>
                      <a:srgbClr val="4f81bd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á správa o čin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kyny k vyplneniu Štvrťročnej správy o čin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1. V riadku Prijímateľ - uvedie sa názov prijímateľa podľa zmluvy o poskytnutí nenávratného finančného príspevku (ďalej len "zmluva o NFP"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2. V riadku Názov projektu - uvedie sa úplný názov projektu podľa zmluvy NFP, nepoužíva sa skrátený názov projekt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3. V riadku Kód ITMS ŽoP - uvedie sa kód ŽoP podľa ITMS2014+ - vyplní prijímate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4. V riadku Meno a priezvisko zamestnanca – uvedie sa meno a priezvisko fyzickej osoby, ktorá predmetnú činnosť vykonával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5. V riadku Názov a číslo rozpočtovej položky projektu - uvedie sa názov a číslo rozpočtovej položky podľa zmluvy o NF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6. V riadku Obdobie vykonávania činnosti – uvedie sa obdobie, za ktoré sa štvrťročná správa o činnosti predkladá. Obdobie sa uvádza v nasledovnom formáte DD.MM.RRRR – DD.MM.RRR, ( napr.01.01.2017 – 31.03.2017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á správa o čin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7. V riadku Správa o činnosti - uvedú a popíšu sa činnosti, ktoré zamestnanec vykonával v danom štvrťroku, popíše sa najmä prácu s cieľovou skupinou. Ak relevantné, ku každej činnosti sa priradí výstup. Opis činností musí byť v súlade s činnosťami oprávnenými pre financovanie uvedenými v štandardnej stupnici jednotkových nákladov a s opisom pracovnej činnosti zamestnanc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8. V riadku Zoznam výstupov činnosti – uvedie sa zoznam výstupov, ktoré zamestnanec priloží ako prílohy správy. Príklady výstupov : príloha č. 1 - prezentácie a fotodokumentácia z otvorených hodín; príloha č. 2 – pedagogická dokumentácia. Zoznam príloh musí byť v súlade s popisom uvedeným v časti „Správa o činnosti“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9. V riadku Vypracoval – uvedie sa celé meno a priezvisko zamestnanca, ktorý štvrťročnú správu o činnosti vypracoval a dátum vypracovania štvrťročnej správy o čin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á správa o čin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10. V riadku Podpis – zamestnanec, ktorý štvrťročnú správu o činnosti vypracoval sa vlastnoručne podpíše, (nie je možné použiť faximile pečiatky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11. V riadku Schválil - uvedie sa celé meno a priezvisko zamestnanca, ktorý štvrťročnú správu schválil (štatutárny zástupca školy) a dátum schválenia štvrťročnej správy o čin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12. V riadku Podpis – zamestnanec, ktorý štvrťročnú správu o činnosti schválil sa vlastnoručne podpíše, (nie je možné použiť faximile pečiatky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9680" y="24206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46c0a"/>
                </a:solidFill>
                <a:latin typeface="Calibri"/>
              </a:rPr>
              <a:t>Ďakujem za pozornosť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 súvislosti  s využívaním  štandardnej stupnice jednotkových nákladov pre pracovné pozície - pedagogický asistent, inkluzívny tím a asistent učiteľa pre žiakov so zdravotným znevýhodnení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slúži aj ako podklad pri overovaní novovytvoreného pracovného miesta na škole zapojenej do projektu. Ide o preukazovanie novovytvoreného pracovného miesta  pre pracovné pozície pedagogického asistenta, asistenta učiteľa pre žiakov so zdravotným znevýhodnením a členov inkluzívneho tímu (školský psychológ, špeciálny pedagóg, sociálny pedagóg) v rámci projektov OP Ľudské zdro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rijímateľ novovytvorené pracovné pozície vo výkaze vypĺňa v riadku 0131. Overovanie bude uskutočnené porovnaním počtu uvedených pracovných pozícií pred začatím realizácie projektu a počtu pracovných pozícií po jeho spustení, t.j. budú predkladané a overované dva štvrťročné výkazy o práci v školstve výkaz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správne vyplnenie štvrťročného výkazu o práci v školstve je základným dokladom  pre priznanie nárokovaného výdavku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eva.fekova\Desktop\s.png"/>
          <p:cNvPicPr/>
          <p:nvPr/>
        </p:nvPicPr>
        <p:blipFill>
          <a:blip r:embed="rId1"/>
          <a:stretch/>
        </p:blipFill>
        <p:spPr>
          <a:xfrm>
            <a:off x="468360" y="1341360"/>
            <a:ext cx="7920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4978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77040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8508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567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č. 1 - údaje o pedagogickom asistentovi, asistentovi učiteľa pre žiakov so zdravotným znevýhodnením a členoch inkluzívneho tímu (špeciálny pedagóg, sociálny pedagóg školský psychológ) sa uvádzajú do riadku 0131 „EŠIF z RK MŠVVaŠ SR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č. 1 - údaje o pedagogickom asistentovi, asistentovi učiteľa pre žiakov so zdravotným znevýhodnením a členoch inkluzívneho tímu (špeciálny pedagóg, sociálny pedagóg školský psychológ) sa uvádzajú do stĺpca (priemerný evidenčný počet zamestnancov“ (t.j. zahrnú sa do prepočítaného stavu) - pedagogický asistent, asistent učiteľa pre žiakov so zdravotným znevýhodnením sa uvedú medzi pedagogických zamestnancov; členia inkluzívneho tímu (špeciálny pedagóg, sociálny pedagóg školský psychológ) sa uvedú medzi odborných zamestnancov (relevantný stĺpec č. 1,2,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46c0a"/>
                </a:solidFill>
                <a:latin typeface="Calibri"/>
              </a:rPr>
              <a:t>Štvrťročný výkaz o práci v školstve (Škol MŠVVaŠ SR 1-0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č. 1 údaje o pedagogickom asistentovi, asistentovi učiteľa pre žiakov so zdravotným znevýhodnením a členoch inkluzívneho tímu (špeciálny pedagóg, sociálny pedagóg školský psychológ) sa uvádzajú do stĺpca „evidenčný počet zamestnancov k poslednú dňu štvrťroka“  - uvedie sa počet fyzický osôb spolu (stĺpec č. 1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1 - zmeny vykonané v riadku č. 0131 musia byť viditeľné aj v riadku č. 01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3 údaje o pedagogickom asistentovi a o  asistentovi učiteľa pre žiakov so zdravotným znevýhodnením sa uvedú do časti „EŠIF z RK MŠVVaŠ SR“ (0131)  pod písmeno B1 – pedagogickí zamestnanci (relevantný stĺpec 1,2 a 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tr. 3 údaje o  členoch inkluzívneho tímu (špeciálny pedagóg, sociálny pedagóg školský psychológ) sa uvedú do časti „EŠIF z RK MŠVVaŠ SR“ (0131)    pod písmeno B2 – odborní zamestnanci  (relevantný stĺpec 1,2 a 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20:40:01Z</dcterms:created>
  <dc:creator>paul sly</dc:creator>
  <dc:description/>
  <dc:language>en-US</dc:language>
  <cp:lastModifiedBy>Feková Eva</cp:lastModifiedBy>
  <cp:lastPrinted>2018-09-04T08:39:03Z</cp:lastPrinted>
  <dcterms:modified xsi:type="dcterms:W3CDTF">2018-09-04T08:45:53Z</dcterms:modified>
  <cp:revision>152</cp:revision>
  <dc:subject/>
  <dc:title>Snímka 1</dc:title>
</cp:coreProperties>
</file>